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3E4-DCB4-4E86-9C80-5C469935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859-D7A4-4F4C-921F-9DCE1AAB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F6EF2-CF51-498C-92A0-627F99B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371AE-B5E4-4E70-A21F-6112D09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5F04C-99B9-4F23-90B0-8CDC905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B8AF8-6948-4C75-A936-4B08D0D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9005A-919E-4E77-86C0-B0142FC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9BD3C-6390-448C-832E-DA7E6861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25722-E333-423F-8AF1-F7353A1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F6EAE-4E48-47D6-BFA0-88D9A11A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A3A30-1EC7-45C1-8481-C6CCD110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27F89-BD83-426F-9B88-13B52B7E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037-3AEB-4089-A50C-2C2C65AB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6F903-EAAF-49F1-AFAC-6534D973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8AE88-D49F-43E7-A739-4E643CDF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4BEDE-73C2-437D-9BE8-1AAF80CB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FB558-BCC6-48B9-9170-E3B70F1C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BABC1-72C6-4AF6-9B93-85D3C9C8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DE2AF-6F4D-4A32-B5AA-B18EC31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AB59A-D143-4E09-96DB-4C9198DA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CFC8C-286E-4AE6-A2D6-9DD92EF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EFA6C-2A1A-4513-8525-71E5E4F4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5171C-B1D9-4ABE-85F4-34BBA4F8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CA3-5F80-408D-A931-407387F2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C96C8-D09F-4579-8E60-EF0CB234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044C5-39D0-4E15-9C25-F6CF4E1F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42F6E-89FC-4AC5-AA97-3BEE1F2A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301BB-775F-469C-8550-BC9E7C20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7A836-EC2E-416A-92A1-AA97D558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68F5E-35B8-4D47-B48A-C5A5BBE1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1B1D2-4C5F-47D0-A6D1-89D78875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93D29-E3E3-40E8-B4FB-B652C14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1272A-F80C-4092-97EC-972A9D3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4E809-1180-436D-979C-A782B82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D0B8-188F-4974-AB13-E7C70032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D9A12-9B65-4FBC-9F8F-2C319C0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FFFC9-6B37-4385-A1F5-49F63965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DFC0B-5C89-4CFE-AB15-FDFDA7B2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91EF2-3DA8-4700-BD37-40A292CE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B6C0E-CF26-4733-BEBF-D0B2704E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33EE0-12D8-4240-B390-FC5C9CF9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7E03E-E2B2-4DAA-B1AD-71ABD7CA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8FC35-5A3F-4ECD-94FF-A513390B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68587-5737-4AB8-B18E-D3B751BC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35CED-8357-4062-BDC7-1C93413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EAF6-63D6-4E46-BA19-49FF4B14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AB3EC-D570-411F-8A5B-45E67ADC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D636A-58F3-4094-BC5F-19A85D8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55EB9-A25A-4461-958A-161DC2D5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8AE66-CCCC-4DDB-A51F-4D5268EA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48D96-29DB-45D2-A780-96062CDB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78D2-7C85-44B9-A9E5-6BA6690A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7D8B-52A6-4897-9DB3-52C381E9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C921-E4A9-4B7B-A5B9-F5F44C4F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5115-1A7A-47DC-BF20-CC94C46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5F09-3FC6-4214-8B4B-9F3EE419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6D7-7E94-48F1-97E2-493E3492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A880-35B4-4B9B-8104-45B7761E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2738-6EA6-4881-AB4E-DD9F2B1E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93B3-EB25-46D4-BFBB-A4DD510A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847C-ED09-4C5C-88AB-C8563E32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CD80-285F-41FB-A72F-B094496B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A711-4505-4F1F-A027-AD59C037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6620-1A45-4A2A-8C3F-64CF2566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70C8-9479-4194-B347-D47DB46F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D871-6111-4F04-B35F-359B67B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0370-2E0A-4B92-B3C3-928E792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CD0-0323-4AA4-9256-8591A66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2756-7818-4E1C-B4D8-9D35F4EC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A7DB-00E8-45A9-82A4-F5CC1DE4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08E9-76AB-4867-957F-6784B9FA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C5CE-2494-4FDB-B97F-2E3A94B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64C3-09A9-4D0C-A027-EBA53C57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D6EC-DC75-4BDC-94E9-54147E87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D8C1-7E8D-4683-9571-BCDA62E2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FDFB-0F5E-4199-940B-F3BB994C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00C4-C78B-4CC1-AD1E-A6F94ED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7AB5-C159-4A0A-BD4F-485D7C91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2C0-0682-4153-9E15-BDCF3AB8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7A23-DA78-47F4-B1D6-26A613B5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16A2-3FEF-422A-A9A9-0D3E3E56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4901A-7BCE-4DA1-A9F8-6A15C5FA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8249-FA06-4E32-85F9-C095254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CAF5-EBC6-4DD7-840C-0F2FF09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3A16-A9C2-4CFF-AECB-3102058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5174-5BD0-426B-B66E-4B526E47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7F99-A5FD-4369-A278-E4F4A402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AAF8-D3C4-449B-B6BD-CC5825A4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9D16-76CB-4F71-A827-051F6765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E46-0A54-4C96-8879-06F40809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3B9D-5C60-4F08-ABBE-289C28C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5923-ED25-44EF-9912-E181CBDC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3DA1-F335-4F36-8501-0D674B1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823AC-D921-473F-9F1D-67DEC443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7B153-D22C-43EA-A11B-7DB17314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76E88-B57C-41A9-82F6-AD8D1868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F467-3144-440B-AB6C-80D4B3F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7C55-7F14-4643-91B9-573A43BB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5B01-EF4A-402C-8828-76F33BA1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94A6-C113-4C9E-8879-AEBBB7F8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379-3056-4289-B263-077FF307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9F8F-1375-40C0-8657-FD2D7656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07C8-1655-4CBA-A2CC-05161B18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B8108-164E-4B93-A170-D7C87F35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FE634-0127-4B85-860A-1AFC811E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D176F-DF0A-4C23-A2DB-329CC750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D877-E131-44CF-9448-9CA34049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216C1-11A5-4C34-8ACE-811AB1DE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F518-D0C7-4A8F-8C2A-72F3879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C0A14-BCD3-4873-B39B-99E382A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8B98-F3E8-458D-BEA7-6EA5495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C27-8CEA-4EDB-974B-76CC47D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4D91-F7CA-4889-94AD-924FFEC5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58DB-9C86-4376-BF03-73385841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ABA8-F15A-46D3-8D69-2952D9BF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B97A2-E2FF-41ED-A645-0EB20F6A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6DB69-2704-4439-9C3D-734E7447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E90FB-EA26-42BD-9184-B970BE2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9EF37-5DBF-4AB2-91D6-98322DB4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58C06-81D5-420E-BCAE-A4FACCEE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4EF76-ED19-45B9-B683-B27C78F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2393-6DA2-4759-84FE-D396E36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8D-5B90-4AF6-AA98-006DA8A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018F0-C3DF-4599-A506-93529694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9C9EE-4B18-4593-8605-E0D453E4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ABD21-8F16-40DB-8494-67DCB5E6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249FA-7F6F-4DC2-8E37-D8BF027E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8D9A0-DD29-40B3-AD53-494CA71B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5969F-B3DE-42C0-8DEB-71707A6C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EC77C-7A35-4B9F-868D-CB2E263A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64426-9B6A-4A77-8236-5C355945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13516-DE12-4FBA-86C5-F601FD42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761E-B6DD-4714-8179-61D0BA6B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C2F-7032-4689-BB66-1F8ED917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CB999-43B4-4C06-9F84-B8ACD56E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FEA4A-E7C3-4A41-8B4F-AA223AD9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C2FBC-9766-49DC-8DD1-A9C490BE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E78F5-A04A-4108-802E-1BE53A43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7DCF7-4B80-4026-8F48-5873071E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F2E22-1520-4A50-A835-DAE16CA4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2D0F1-D96E-4EDB-B377-F595ED65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F76CC-2671-45CC-B72D-7102C6A8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648D-4324-465C-8A2C-3EEF0FEC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4EB6F-8B27-4C8F-BB8E-E710884E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9DBC-ABC1-4C37-9713-B8CF023FE3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EBA-9C10-450F-BAD7-ACFAAB6547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6AAE-480D-4BEE-B31D-2544220487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AB26-68C5-46F2-9DB1-6C105AAAA5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B720-3381-4081-B611-3313CDC317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A4A-B3C6-4BED-A81B-371FFA98ED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5AC3-F7D0-43DF-8FCE-238801AEF4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8A9-700C-4601-B98D-BDCE6276D3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560B-2270-4A5F-8C69-165252BA3D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5071-A509-4128-98A6-638FFAC650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701A-2901-42A2-9E7C-6E1F53434A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649F-786F-46F6-8032-0ABECEF963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8 Prichádza več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y Kr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chádza večnej slávy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zývajú sa piesne chvá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lmami cesta vystla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vôkol: Sláva! Hosan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ešený, hoci chudob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iatkom skromným nes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stupov poctu prijí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riešnikov sa u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v nebi vlád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útok,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njeli vidia: Pán, ich Krá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, dobrý, presvät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mrti ide v ústre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rieť za nás on sa nebrá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smrťou svojou zachrá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ch, čo tu v neho dúfa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pásu v ňom len hľadajú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11T16:33:41Z</dcterms:modified>
  <cp:revision>33</cp:revision>
  <dc:subject/>
  <dc:title>Je veľký náš Pán, on slávy je Kráľ Nech do všetkých strán  spev vrúcnych znie chvál.</dc:title>
</cp:coreProperties>
</file>